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599552"/>
        <c:axId val="12619950"/>
      </c:barChart>
      <c:catAx>
        <c:axId val="385995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619950"/>
        <c:crosses val="autoZero"/>
        <c:auto val="1"/>
        <c:lblAlgn val="ctr"/>
        <c:lblOffset val="100"/>
        <c:noMultiLvlLbl val="0"/>
      </c:catAx>
      <c:valAx>
        <c:axId val="126199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5995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6BF4-1B3D-420D-BE90-1164EF05B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F492-610D-424B-9218-6EF49A4F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E457-78D9-40D3-9950-A7E1DD8E3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A86A-DDCF-411E-A88B-865884EA7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BFD8-8AE5-46F3-BD26-FEF387AE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151D-01A4-45A2-B55D-CE03BFEE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0A73-F574-4513-A3E0-D6E4CD3A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8A55-6807-4709-9A0B-0B464B47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DFE7-66B1-40A2-849C-DE3F24A5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CD57-EBC7-441B-9A2F-82C1F223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A0E5-D9C2-4E00-B198-C402E321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7E5C-A80F-497A-81D1-FB5A9060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DE90D6-9214-489E-A510-A17DD267AF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