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4321"/>
        <c:axId val="44953115"/>
      </c:barChart>
      <c:catAx>
        <c:axId val="1954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53115"/>
        <c:crosses val="autoZero"/>
        <c:auto val="1"/>
        <c:lblAlgn val="ctr"/>
        <c:lblOffset val="100"/>
        <c:noMultiLvlLbl val="0"/>
      </c:catAx>
      <c:valAx>
        <c:axId val="44953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4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808-C29C-416E-AB8D-583148D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D24-49AD-4810-B351-F4FB2AFC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B6E-2545-450C-9955-7E0BA5D9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887-62F7-4587-ACD9-D69760CE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BF3-2DBA-4CBA-A969-0DB73659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3F4-6C9E-456C-91B6-626E5DA8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0A0-317A-4DC3-BB35-6C1BAA7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ABC-67D2-4CE0-ABEC-6468209B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DDD-531D-44D5-9961-B794FD23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1AA-5A99-4B23-B987-A72F549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77B-7392-4BBE-977E-AAB2F5D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188-DD25-42B4-8881-8D9F6C8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5306A-C70C-42CC-B21A-D7F9ECCEB2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