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08199"/>
        <c:axId val="38383639"/>
      </c:barChart>
      <c:catAx>
        <c:axId val="965081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83639"/>
        <c:crosses val="autoZero"/>
        <c:auto val="1"/>
        <c:lblAlgn val="ctr"/>
        <c:lblOffset val="100"/>
        <c:noMultiLvlLbl val="0"/>
      </c:catAx>
      <c:valAx>
        <c:axId val="383836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081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A4C0-C25C-44D1-934D-5B11F410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EC7-72C6-4F9E-8E81-F52E4095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608-15D9-4B1A-BAD1-503BB40C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942-2EAB-49C0-B5F6-B1FEFF6E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CD9-BEA6-4BC2-9CD7-C744D8E7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995-3386-4621-95E8-C769550C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FB6-3781-4F63-9964-53C09383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72D-A34C-4B2D-9E02-1964AE6D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81D5-E9BB-43B8-8534-96C40719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A78-BBD7-448E-A777-79C27141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149B-B1BB-4F01-82C0-821F2530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28C-A0C8-45BA-9CFC-56852DD0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23392-FCC4-4348-9EB0-BAD474DFD2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