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27906"/>
        <c:axId val="57571643"/>
      </c:barChart>
      <c:catAx>
        <c:axId val="54827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71643"/>
        <c:crosses val="autoZero"/>
        <c:auto val="1"/>
        <c:lblAlgn val="ctr"/>
        <c:lblOffset val="100"/>
        <c:noMultiLvlLbl val="0"/>
      </c:catAx>
      <c:valAx>
        <c:axId val="57571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27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7EC-E8B6-49C2-B314-11FEA712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6FE-01EA-4FF9-A90C-ABCDDA4C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CBD-425A-4271-85A6-FB65CE63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77D-B3C0-4087-AE3F-684F219C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3AE-0B73-4044-AB06-0C81BC3B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C31-103D-4E7B-85A1-06EB437A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70B-8CD3-46B2-9546-2D80175D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0B2-ABEF-4049-A803-99B8942B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E52-9167-4D7F-B483-2367AA19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8BF-FB45-4E6C-9FC9-7BB496A6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844-5D5A-4DB0-A132-A1257181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1FC-4E06-4AC6-9645-9215A78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EDDF2-8843-4009-9B92-34D4843CEC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