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356202"/>
        <c:axId val="7633756"/>
      </c:barChart>
      <c:catAx>
        <c:axId val="493562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33756"/>
        <c:crosses val="autoZero"/>
        <c:auto val="1"/>
        <c:lblAlgn val="ctr"/>
        <c:lblOffset val="100"/>
        <c:noMultiLvlLbl val="0"/>
      </c:catAx>
      <c:valAx>
        <c:axId val="76337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562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621A-1843-40AA-9ACA-0D5BBA1E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DE8E-F1E7-4319-8ECF-502D94D3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161B-0B7C-4440-9B5F-12F30476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D929-8CE6-4D5C-ACA9-923331F6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4B41-7A82-430F-9CAE-CB4FEEEB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28CD-836C-4B66-B099-6415C929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A741-1F38-4EEE-8B97-918DC359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6057-8C2E-4566-AB47-E7199697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8FF4-9191-4F2E-A0E1-250816EF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2D75-3688-4B85-88BB-CCF7E4AA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EDD5-F7E9-49D7-8981-CDF68E58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4A88-ED57-4269-8F58-DEA4B640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A135E-D69D-4FD6-A631-806D71B647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