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5449"/>
        <c:axId val="14177059"/>
      </c:barChart>
      <c:catAx>
        <c:axId val="1725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77059"/>
        <c:crosses val="autoZero"/>
        <c:auto val="1"/>
        <c:lblAlgn val="ctr"/>
        <c:lblOffset val="100"/>
        <c:noMultiLvlLbl val="0"/>
      </c:catAx>
      <c:valAx>
        <c:axId val="14177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5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E2E-8261-4409-978E-AFE44E3E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071-09CE-47AA-B76A-F151F614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08C-A7C7-4193-931F-BAC2F685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0F3-48CB-492B-BB60-36002F40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4A5-757B-4AE0-B2F8-BFA48333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61C-4DAC-4B75-8F31-0164FB60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04D-8F54-4878-BEF6-66185502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D11-9DB9-4AA8-B726-6C110E7C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992-0AC4-423E-B2DA-F17DAFC8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FB2-050F-470B-B1CB-F0DFE99E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64C-D769-4092-BAB2-F507E183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10D-23A6-4128-9B18-6ED0FFF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4232A-1E62-4FE9-8A31-0A48A97BDA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