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26666"/>
        <c:axId val="10780289"/>
      </c:barChart>
      <c:catAx>
        <c:axId val="94326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80289"/>
        <c:crosses val="autoZero"/>
        <c:auto val="1"/>
        <c:lblAlgn val="ctr"/>
        <c:lblOffset val="100"/>
        <c:noMultiLvlLbl val="0"/>
      </c:catAx>
      <c:valAx>
        <c:axId val="10780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6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8C4-341E-4F8E-BF1F-76B8CECC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0B6-6663-4EF6-B92C-D4A49A4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769-CFF4-4975-B945-4D11BC4B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731-8431-4AFB-A859-8956183C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36D-3256-4083-93B6-F72D3212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1CB-130C-4FC1-B486-F01581F6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86E-A7C5-4B97-8994-511D26D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A93-E67B-44CC-AC7F-1572A85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8E7-24F0-4422-A2C7-94C66CAD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126-4F3D-412C-B9E2-1ABC8FB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BCB-7DDF-49AF-BCBF-D4C0286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C4A-5E9F-40CC-9145-3F8EDD8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1D806-DB73-44CE-ACBE-A0EE7974F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