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0536"/>
        <c:axId val="69766553"/>
      </c:barChart>
      <c:catAx>
        <c:axId val="20550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66553"/>
        <c:crosses val="autoZero"/>
        <c:auto val="1"/>
        <c:lblAlgn val="ctr"/>
        <c:lblOffset val="100"/>
        <c:noMultiLvlLbl val="0"/>
      </c:catAx>
      <c:valAx>
        <c:axId val="69766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0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50B-E943-4CB4-ADF4-DED0DBC1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A84-EE5D-45E6-9D4F-A179D94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E33-C67B-4F27-A1C1-77B891C1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5C8-AFB7-4305-BEF3-FA4E8275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121-2CD1-4EC0-9E04-93B191AD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C9E-1081-4E60-8C8F-F8C48B94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B2C-1BDE-4F66-A350-675FFC7B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36F-C1D9-47CF-843C-BC2E4EB9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CDB-6C61-4510-8C48-839F7B2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15C-9D2C-4176-B03A-C738258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7F2-EAB5-4C38-AC6E-EA4D1D4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8F6-4787-4E92-8BE4-6EC7985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B0B41-0C92-4623-B484-935EA4899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