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25992"/>
        <c:axId val="9594000"/>
      </c:barChart>
      <c:catAx>
        <c:axId val="69425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000"/>
        <c:crosses val="autoZero"/>
        <c:auto val="1"/>
        <c:lblAlgn val="ctr"/>
        <c:lblOffset val="100"/>
        <c:noMultiLvlLbl val="0"/>
      </c:catAx>
      <c:valAx>
        <c:axId val="9594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5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C25-FBD6-43BA-B925-C4401DD0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2D7-5CD3-4899-84ED-91ED9991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062-89BC-4357-8899-E1306735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40D-D28F-48EB-A9EA-E438B4DD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0F7-E7AE-4010-95F1-61F886F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1BB-F2BF-4DA7-BAEE-D8B7E1C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D3A-D400-4828-91A0-BFF849A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3E7-83DF-4A22-ABD0-923ED52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BAA-0305-4FA4-8623-A7859069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F2B-B6E0-4EF8-8D0E-F19C702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3DC-B694-4F4E-A5B8-163E761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514-8AF2-4EE0-AAB1-89AFCE7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F89F4-EF12-4BB1-B98C-D157A7A3AF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