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18874"/>
        <c:axId val="92843161"/>
      </c:barChart>
      <c:catAx>
        <c:axId val="12718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43161"/>
        <c:crosses val="autoZero"/>
        <c:auto val="1"/>
        <c:lblAlgn val="ctr"/>
        <c:lblOffset val="100"/>
        <c:noMultiLvlLbl val="0"/>
      </c:catAx>
      <c:valAx>
        <c:axId val="92843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18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051-E084-4375-AF3C-ADF3BCD6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EED-3085-4DD8-A4C6-C9B7BA4D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A34-0EB1-4A30-8C38-537BA1DD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FCC-BC40-41F1-B9D6-30E20401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860-D2A0-4955-9CD4-916C5210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5CC3-66E4-4735-B199-5C57BC0E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9B4-228B-496F-8BEE-A841824F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998-E9C9-42EE-B91C-76A05467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DBA1-5423-4EA8-AD01-4A16639B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B17-D780-4164-831A-7E9B8AD6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0A73-7546-40ED-873C-E218539D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65AF-73B9-4FAB-8996-9ACB9D5D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BD4BD-EC96-4231-B580-A759C6C93A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