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70300"/>
        <c:axId val="71773031"/>
      </c:barChart>
      <c:catAx>
        <c:axId val="69870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73031"/>
        <c:crosses val="autoZero"/>
        <c:auto val="1"/>
        <c:lblAlgn val="ctr"/>
        <c:lblOffset val="100"/>
        <c:noMultiLvlLbl val="0"/>
      </c:catAx>
      <c:valAx>
        <c:axId val="71773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70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932-5583-4EC2-82C3-732FDE2B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198-0410-4CFF-9D9C-AED65687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D2A-0D1D-4933-8D4B-AC1DBC91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77F-D1D7-4838-9F94-0D77E7DD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AC9-8A71-4127-9D66-B9618287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2B7-1623-4DDA-9FFA-9BFC6E8E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C28-14D8-4FC3-809A-FA446F67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7EE-3846-4638-A510-04279B69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D719-0F9B-4962-A6FC-8A38A6C6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0A4-C63B-4069-843F-1901BD20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517-0466-45F7-B7AF-06E2AEA4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6DA-F8F4-4F64-852C-194A098E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A463F-7FA3-4D1B-9F8E-D61FA9859C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