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83383"/>
        <c:axId val="7933632"/>
      </c:barChart>
      <c:catAx>
        <c:axId val="60883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3632"/>
        <c:crosses val="autoZero"/>
        <c:auto val="1"/>
        <c:lblAlgn val="ctr"/>
        <c:lblOffset val="100"/>
        <c:noMultiLvlLbl val="0"/>
      </c:catAx>
      <c:valAx>
        <c:axId val="7933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3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675-C958-4D73-B34A-DF99A822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520-5310-4DCA-A55E-34AF263E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5E4-3AE5-4884-BBAC-052D7428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C9E-E266-4EBE-9CA9-ADA1CED3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A5A-0D08-4071-BCB2-01A6FAE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7F9-18FA-4E49-BE75-BD9EDE6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E91-FB27-4139-8295-FC26CFE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16F-FFDC-4C9B-96FD-547281E4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8E7-B4EC-4CBE-AA88-02E7AB9A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4BE-DA5F-448E-85D5-F6DD1A0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D5D-95EF-4BC1-AFBF-29ED44E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893-64D3-43AF-A52B-A781A19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7B253-1C41-4E13-BAB0-9C3676C97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