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43979"/>
        <c:axId val="67553706"/>
      </c:barChart>
      <c:catAx>
        <c:axId val="20143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53706"/>
        <c:crosses val="autoZero"/>
        <c:auto val="1"/>
        <c:lblAlgn val="ctr"/>
        <c:lblOffset val="100"/>
        <c:noMultiLvlLbl val="0"/>
      </c:catAx>
      <c:valAx>
        <c:axId val="67553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43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41E-B5E0-433B-B6B2-A4648700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5E9-8C9C-4EE8-AE4A-32D843A7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F81-C6D0-4CAD-B20A-EC5FF2E6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B8C-B196-4500-874F-2B90BA92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DD6-089C-47A8-8EFC-5D5F9FBF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FB3-9169-452C-8130-E37BA3DF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861-6876-4A14-A9C9-DDA360A6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335-4954-4FD6-AA6A-71DC9B54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525-95D4-4EE4-80D2-E775C7A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135-5697-455D-8726-7E116D7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CC3-91EA-4FA9-B600-DE66C58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2A7-5DB4-4096-B630-E31D65D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35701-6A72-458F-92EF-28FFA7A5E5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