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4132"/>
        <c:axId val="44924543"/>
      </c:barChart>
      <c:catAx>
        <c:axId val="23294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4543"/>
        <c:crosses val="autoZero"/>
        <c:auto val="1"/>
        <c:lblAlgn val="ctr"/>
        <c:lblOffset val="100"/>
        <c:noMultiLvlLbl val="0"/>
      </c:catAx>
      <c:valAx>
        <c:axId val="44924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4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90F-E886-4387-AFD4-48DB9349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A36-C819-408C-B107-0B1613CD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538-C22C-48CB-A8D0-1AAC990E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2C5-37CA-4705-A1A9-A8A3BEF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64F-C6DC-4776-AF1C-70D06D8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6D9-5764-47FE-98D0-EBB1F8D9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06B-E355-4062-9017-3061612C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668-A9B1-4932-A4D6-9A3FD7F8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DE6-C1A3-4EC5-9645-0A1758D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389-9541-4387-9F90-081D746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76-8FD0-4E2E-9786-2B0185BC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14F-A4E1-4A88-B2B0-FEE4BE7F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0F0A4-4774-4D39-BB69-0A5CC2139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