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58011"/>
        <c:axId val="18492325"/>
      </c:barChart>
      <c:catAx>
        <c:axId val="98758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2325"/>
        <c:crosses val="autoZero"/>
        <c:auto val="1"/>
        <c:lblAlgn val="ctr"/>
        <c:lblOffset val="100"/>
        <c:noMultiLvlLbl val="0"/>
      </c:catAx>
      <c:valAx>
        <c:axId val="18492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8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C612-9EBA-4AD1-99DF-CFD9A4E7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5F3-04ED-4509-B0B2-515DF19A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EFB-41AB-4207-940E-B05E27CE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761-6E8F-4785-ACC3-595D057B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E8B-29F8-423C-B4B1-95F8BC93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D7B-DCDD-4CE8-AE6F-612C83EA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F26-C455-436A-86C0-47EA7B4D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B2B-8679-4CCB-B5C1-C9130EC8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F1D-4A95-42A1-A04B-C26935C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329-FA9D-4D27-B46F-0B1D772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AE7-0DF8-49E2-9E19-BBED2D8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BBC-8F67-4CB8-9051-5C87AD3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24BF6-5FF3-48EC-B50B-8DD14C5964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