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30161"/>
        <c:axId val="63391238"/>
      </c:barChart>
      <c:catAx>
        <c:axId val="33130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91238"/>
        <c:crosses val="autoZero"/>
        <c:auto val="1"/>
        <c:lblAlgn val="ctr"/>
        <c:lblOffset val="100"/>
        <c:noMultiLvlLbl val="0"/>
      </c:catAx>
      <c:valAx>
        <c:axId val="63391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0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1C2-CC5F-4EBB-9534-A61BC898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4A7-7487-40B1-86AF-54F544E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DBE-97B9-47D1-9A62-7827A28C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8B6-F8C1-4ADD-BF5E-B1A33D44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7C1-1F6A-45BE-8AEA-C75E9BD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BE1-BE29-4A6F-AD6D-8D8EC4B5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558-F838-40CA-A0B6-0779883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015-5093-402A-8A00-4EDB600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B5C-A78E-43F4-A25D-DB9ADBBE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A67-B48D-4607-9306-4970CED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563-F971-4753-A5D1-4FAE160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57D-77F9-416D-B2AC-D1E01E4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EE477-8AA7-46FE-BF44-C0A1AA2DF5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