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28825"/>
        <c:axId val="46528420"/>
      </c:barChart>
      <c:catAx>
        <c:axId val="93028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28420"/>
        <c:crosses val="autoZero"/>
        <c:auto val="1"/>
        <c:lblAlgn val="ctr"/>
        <c:lblOffset val="100"/>
        <c:noMultiLvlLbl val="0"/>
      </c:catAx>
      <c:valAx>
        <c:axId val="46528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28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E61-9343-4040-9815-39E33172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FAF-A550-49FD-86EE-869EA093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7F2-F9D5-48FD-818F-F864A57B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764-6D1B-48DB-99EF-AE591356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E0B-51D1-40B4-80AF-B95CF456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510-7A09-4676-896A-4CCB951F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EFB-7252-496F-9E7B-3C571296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159-A2CC-4867-8943-181076B6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E70-BF00-419A-9A39-79FE87B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11E-B500-4D80-9DBD-8977F42F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E3F-A1E3-474F-AEEA-1FFC31F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A1A-2776-4190-8D41-A1A3AB1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0296F-33CC-4E3E-8E58-772551BACF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