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06849"/>
        <c:axId val="66411816"/>
      </c:barChart>
      <c:catAx>
        <c:axId val="63006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1816"/>
        <c:crosses val="autoZero"/>
        <c:auto val="1"/>
        <c:lblAlgn val="ctr"/>
        <c:lblOffset val="100"/>
        <c:noMultiLvlLbl val="0"/>
      </c:catAx>
      <c:valAx>
        <c:axId val="66411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6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EB1-3532-4673-9D17-DD78A011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2E1-06DF-4FF8-9411-293752B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9E3-E7DA-40EB-A270-AF227BC2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0C4-ABB2-4536-B2C2-7E09593D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856-0922-4219-8ED2-4A9B870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62A-D19E-49E4-89B2-6F15F769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D54-F988-416E-A144-17EF6E7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D55-F62C-4970-BA2C-C90E479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DDA-8671-4440-BC2E-5275B89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518-BCAF-4052-AAB8-0CC3FAC3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DCE-0817-4A7D-BCC9-CFE4EC9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302-D5DD-4B43-9DBE-5FB18D2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07EA-20A9-4DB8-8E76-51E81E597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