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4423"/>
        <c:axId val="53559313"/>
      </c:barChart>
      <c:catAx>
        <c:axId val="8124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59313"/>
        <c:crosses val="autoZero"/>
        <c:auto val="1"/>
        <c:lblAlgn val="ctr"/>
        <c:lblOffset val="100"/>
        <c:noMultiLvlLbl val="0"/>
      </c:catAx>
      <c:valAx>
        <c:axId val="53559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4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560-C307-4B21-8250-8E6D994D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65E-F803-44F1-A9E9-C74C6822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7C1-506A-4DA3-AA7C-F772D649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ABD-016D-40FC-8D51-5C9692C1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936A-2646-4385-9C39-4879D73C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EF1-6E95-465C-959D-71512517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FFBF-7749-44CD-8C7E-CA7E8FF2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A5A-5E03-4667-9162-AD49F028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AEB-5748-4615-A6BA-202F1845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8E3-6D8F-4FC7-9E33-6A0C362D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AC3-9760-4DF0-9C0C-EF28F04C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4D94-AF8C-4AC3-A635-05374905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A40B4-8ADB-425C-855C-20AA11DF8E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